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A76-DEE6-4D73-9D87-531B5702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BC8-2CBB-4EB0-B2EA-7C3D52F2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B39-E916-4DEE-A83C-109A2222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3A9-72CE-4A27-8C7A-24FCAF06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0E3-5A82-4631-BE63-DE5D44C1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4F7-4147-41AC-A246-4B345A59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856-537F-4D28-A06B-EC041CFE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69A-8AC6-4462-9FA4-2CA6B29C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8D3-155F-4F56-9A48-FCDD89D2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C7B-C712-425E-9DE6-8E8F995B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656-4878-42E4-B339-A035F05A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7E6-1215-4D4C-B04C-99E8CEFF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AC91-559B-4A71-BA74-3259B298E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DESIGN BR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 TAC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3 SYMBOLS IN A ROW VERTICALLY, HORIZONTALLY, OR DIAGONALLY WITHOUT GETTING BLOCKED.  ALTERNATE TURNS WITH ONE OTHER P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 – SOUND EFFECTS &amp; MU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&amp; HOW WILL SOUNDS HAPPEN IN THE GAME?  WHAT MAKES A SOUND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THERE BE MUSIC IN THE GAME?  WHAT MAKES THE MUSIC START &amp;/OR STO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6T17:55:38Z</dcterms:created>
  <dc:creator>localuser</dc:creator>
  <dc:description/>
  <dc:language>en-US</dc:language>
  <cp:lastModifiedBy>localuser</cp:lastModifiedBy>
  <dcterms:modified xsi:type="dcterms:W3CDTF">2011-08-26T18:24:49Z</dcterms:modified>
  <cp:revision>2</cp:revision>
  <dc:subject/>
  <dc:title>Slide 1</dc:title>
</cp:coreProperties>
</file>